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D51-01B5-47BE-9FEC-400C60FA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22C-1B45-4CC6-85DA-4862B09F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198-0CF9-4FC0-A3AF-44D3765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EE6-3B60-4455-BB1E-6F0A8595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5BA-49E3-449E-BB59-3E1842E7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C94-A097-45C7-91DE-907FA62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07D-DC58-49EB-BCC7-DF3AAC2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85E-43C6-446A-8096-71111E88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E3B-EF89-433D-8D99-9A760238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0F2-15E4-4588-B479-F6D70D5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21A-38DD-4414-AB90-35A513BA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D87-0A5A-4232-B3BE-47166CE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413-6A84-4AD0-A1A5-980FAABD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therjones.com/images/american_map_GDP62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aliedee.com/022606/map-ke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OLS OF GEOGRAPH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ost important tool a Geographer 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Maps: show elevation us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pecial purpose maps (there are many!) : land and resource, Veget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3320" cy="388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371840" cy="327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6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OTHER T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urpose: to find places! (absolute location and relative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roblem with maps: dist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1911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biggest clue to maps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 or key: tells you what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: tells us direction on a map…more specifical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: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1911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486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Directions: N, S, E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Directions: NW, SW, NE,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wo types of 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Map: shows political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Map: shows physi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3:06:25Z</dcterms:created>
  <dc:creator>tmoore</dc:creator>
  <dc:description/>
  <dc:language>en-US</dc:language>
  <cp:lastModifiedBy>tmoore</cp:lastModifiedBy>
  <dcterms:modified xsi:type="dcterms:W3CDTF">2008-09-07T21:52:15Z</dcterms:modified>
  <cp:revision>11</cp:revision>
  <dc:subject/>
  <dc:title>THE TOOLS OF GEOGRAPHY!!!</dc:title>
</cp:coreProperties>
</file>